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40"/>
          </p:nvPr>
        </p:nvSpPr>
        <p:spPr>
          <a:xfrm>
            <a:off x="-3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41"/>
          </p:nvPr>
        </p:nvSpPr>
        <p:spPr>
          <a:xfrm>
            <a:off x="388440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A8D9-6BDE-4FD7-9A18-914DC1724B69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22A6-A719-4A81-A908-FFE7209A7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2F82-799F-4B7F-8C10-D7B5D43C0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34F3-B2FC-4A88-81DD-A743598FC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A75B-B20E-4A01-8829-690A19832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2EA2-A84E-4B37-877D-7B11FC551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B423-417D-47F0-A629-B2DCC581C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C791-BA71-48F1-88FC-3403FB92D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6E17-14CC-49FD-B865-314E79275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66F5-670E-4438-9EE9-6FD3BA0A8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C23D-61A6-4755-ABCA-D0B23584C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7FB6-5252-4421-A57E-97E5B0995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6690-E2FE-47FB-B23A-16BA41E8A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CE20-0939-4DE7-86D7-F93479194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F6F8-4D7C-475B-B057-F3CF2A6CF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17F1-DD83-410D-8D4E-374CCCBCE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A6CF-0064-41FF-B08F-4D1DAB76B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ACE2-5780-440E-B83E-664A95916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3064-8B99-4B4E-84EC-412547EF1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B506-F291-46E2-882E-C458768BD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894F-1F2A-4D16-A8A7-0C9003913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5EF4-3CB5-4D17-B719-90A0B92E4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F132-BC5F-4767-9477-34522CBD4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3195-91D4-42CA-9B44-68660A7A8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4CE5-03AE-496D-9633-891C32036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D00E-0D57-4A31-B5AB-2F22948F2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00FE-CF64-47BA-9829-37425CDF6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24E5-0A85-426E-994C-4DCE87DB7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CD7F-0896-4EB7-AD08-5D70328A7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F0A8-E3E8-424B-9478-FD6E2E17C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D3FD-3338-484E-8982-96A8FD35E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017F-F704-46AA-A194-2957EBC6E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D243-CC5C-4374-B3B5-65A6972B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F186-7C60-4684-B654-F1CD3E61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B6131-06CC-4F2E-801C-0C6A49BC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8C8B0-5F65-411E-945D-1774FD9A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DFA24-95DE-44E7-8FCF-A32B0208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46E63-6C57-4F3B-A8E2-F3BD0D13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39C52-FD37-4CE1-9004-1F51F068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12186-B652-454D-82E7-CE7BB4D2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A09C9-2673-43FB-A01A-741BFC46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7C03E-CAA5-47C4-A186-1746A25B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D43BE-0E4E-42B2-A4F0-972CDFE3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4B702-BABC-41F4-B7CC-64D182AB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7B06-162C-4751-AA49-CC00958D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72904-8AB6-4C5B-99B2-99439675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80946-8E69-4F7B-9AA8-1DA86535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22EED-41B1-47BF-9C8F-084FBC7A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63C20-6B7A-4AB6-A4CF-732BBCBD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56928-7553-45BB-9294-498897A5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4CEFD-76D4-4EFC-910E-E979AD90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2A412-9044-47A5-9BA3-C913DF26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74F00-12A9-4D19-8054-F0DC6FF9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8D595-D5AA-49D4-9E06-67662217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DC16B5-15B6-4360-A1CD-BB7DA1BE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9424-DF2E-4D73-96D4-652F74E5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85EF5-DCED-4810-8428-E29B3740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A33B8-0AC2-410A-877E-524589B9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649A2-F336-41EB-98FE-B249A0E1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2BE84-ADBA-404C-9C01-5E0DFB15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4CA8C-C6E6-4E36-BAC9-B79F0C87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1E62E-E6F3-401F-8018-533E57DC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E9C7D-B3FD-43AD-8A7E-37A4FF28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4BC49-9E50-4352-96B1-837CEFD2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A793F-D46D-45C8-A0B1-B438A28A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352F1-A421-468E-861B-0E231AAB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8AE0-EF5B-4AA7-8D22-9BDFAE88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46F4A-BBC8-46C5-A87C-5FBEB026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BFF98-7FD1-4BE2-A76F-A1F42856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49012-23F0-4909-9C09-6384C13A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910C3-F8E2-43B7-B387-80732334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A7F51-CA4B-44AC-8988-86CF5DAE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20A86-CB31-46BB-B7D6-19F7CCCC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D0C4E-6C4D-447E-A697-27162428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DB316-9004-4117-8B22-A55C2CC6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DED93-977B-4003-B6B4-CBF2787F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DFCAC-3C53-491A-ACC8-E634BB73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4AE4-FD69-4C98-A4EC-5B4308E2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54202-1383-4BAF-8376-D5033422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50A18-250D-4A55-9B03-D548AE7E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3C8E4-F18A-43E5-9554-FD03E802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50D1C-2D88-41C1-8685-7A904311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0B47E-47E6-49A8-A028-E42103DF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7F9973-64CA-45F2-96C2-B53BC832FD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BA5F51-11A6-4FF8-BC3C-F2FF2D49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A51317-D6F5-4E38-AF06-3ADD6130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D003CF-80AB-493B-B490-22C7A9C3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D0B63A-333C-4666-AECF-93B60E8E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A220-0839-4A52-8B0D-8B632A0A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DA9C36-38FA-4AEB-A2CE-9C31C897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C84AD9-326B-412B-A528-BE1A7F79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CC4BD4-FBA5-4D48-894B-FEECFC1B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DF29E2-EB56-4A8E-86BA-61C2ABDA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B689E5-6594-4487-A3BD-E7BE0345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7122B4-1FBD-4584-8B6A-8AA005B6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F6E07D-3610-4976-B6D6-F3449DBEA5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03A4-A8B8-4D27-9D63-78DD307D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C5A8-A2B6-48F6-B08E-B83D3088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12E3-97C3-412E-A385-EA7CBF68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09C1-0897-47CF-9D69-34E5D2FA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34D4-0478-4857-830B-2AF0EE47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C469-8327-47E4-8F57-248FAA5B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D0B7-5BED-49B7-BEF2-9B38A825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90B1-416A-4263-A36D-E3D9010C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2668-8464-47FC-9B37-732608E5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15E2-1CC0-4CDE-8D1B-2E91AA06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2D152-955F-45AB-B2E8-03DD4377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A202D-C8C3-449B-9DAA-2C2F4AB8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61E9C-4ABD-49FD-8711-00656772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64534-3FBD-4BE4-A8C8-8810CBDD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21609-45F9-4C23-9255-21C614A5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23F0-AA50-48BA-8E55-8F71D14B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1DFEC-CECD-48BA-8DA6-59A9F6C5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75EA9-1BFC-4C9F-8089-B9CA9CF1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BF787-4E3F-4361-B8B7-76DE017B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5BA98-1CFA-49B4-9010-C3B6563A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1D899-0B35-426D-8A9C-9D468C36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DA8F2-9B9D-425C-BB4F-D74C48A1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336C4-366C-48AA-B05B-4BDF5E00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5B7E0-4090-4E95-95FD-CF34BBF7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CA4BA-81C4-4FEF-8B8A-B176E813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9C3B3-7189-4B3E-AA75-244E4834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9D6A-9FE3-47B7-B9EC-D82056D3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28D39-2158-4DBE-9987-4C17BE6C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8350C-7EE3-4BE0-82FE-6CF686ED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1D6F5-DEE0-46C7-B899-346339C5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33645-BD71-4F76-BAB4-7D66256D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ADC7D-02A6-4166-AD49-88201372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DF9FF-8A4E-4B7D-9542-CE1A5868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2E9B8-D451-4710-B1B9-09075137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CB867-A9AE-47E4-A5C7-597765AC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29537-91D3-4AC2-82AF-4F435E4C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C2A04-2649-49CC-AA04-39053363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405D-F82D-4A72-8FF6-5E58DC08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3EF8A-1FD9-43B4-BC1E-522519E9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4952C-3A84-44EB-98EC-B6327A06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E2B1F-BEFF-4EEC-B840-8F2C5077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28436-8912-4259-A33B-07531F87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A5085-165C-4C88-AB2D-47DE7121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5D4ED-793E-4462-BAA8-79C14821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6095A-969E-4942-AAAF-1DADC2CB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DF704-169E-41AA-ABCA-42476324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85292-A239-41A1-BA42-90108730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D22BE-BF6E-4224-A343-9395815E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C14E-C727-438F-8EFE-41950D9D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80F7D-E55E-4E55-85A5-C88B726C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FF910-ABD1-4AB3-B30F-62C3A049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AFE41-7D71-4F31-BDC6-1E655912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2DD42-57FA-48E4-B3E8-89493221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1D132-C31B-489D-9ECE-3EE8897E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B8E28-2610-4FD4-A161-E6728EB6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82DD6-3288-40C2-BDA5-919BE354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CA271-A1F2-4E5B-B747-135D99E4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C6672-DC05-40E0-BA2A-9BB797BF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F7B0D-69F2-4354-96FF-460372D2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AEDC-78E3-475A-A20C-B792729A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AFA37-30D0-43DC-8BF1-247CED5D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20CB2-1299-41DC-B811-60545564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C52B2-9A52-44C3-9D01-746CCA31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1FD2A-FF3B-400F-8BF4-BA91D0F6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6DC14-48B6-4CAE-9FBB-756A3BB0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32469-6984-42F1-A212-88EBD37A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D5688-F180-49A7-9C8F-0E2FC76D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9A4BB-ACE6-46AC-B161-1AA7BDF0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87836-7889-4956-ABF2-F3719BF8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BF39F-87CC-4D49-9F24-3FDF5A28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1E58-73DE-4A58-BCE4-C744E2BB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5B17D-4828-4FF3-9D98-C12E3904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1267B-C78C-41B3-9B9C-EC35A029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2F442-5B85-4270-8338-D51394C2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48951-AB93-460E-8466-3505ED2B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7AE36-E5B0-4749-9442-77039E82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D95D9-95CB-4FF0-993F-78AD03A4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6FD6A-F83B-4150-9D15-9CDA1D3A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EB440-44C9-4274-B4C8-92315DE3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50DFA-7E37-4E56-9F3C-C251D0A5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5587D-D133-4492-93C3-2EC4EE0A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C9D3-D098-4D39-99E2-37082785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86BCA-986B-4BCF-83DC-4FF6A343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6FECB-A92B-4262-B063-B2838E0C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EFA01-ECE8-4495-8BDA-B3B0F4A1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FA98D-AB36-480E-8141-0C83FDFF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6F9B9-6B28-4157-A240-6414E9D1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F2E4E-6573-45B1-A643-37611649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85F20-5CF7-415B-B892-D54F59D0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55DF6-4617-4F91-B4F1-327B9E7A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94832-9965-4703-8B88-03C0A117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3673A-3CE0-4467-8CFE-8491B53F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B73B-5640-484F-9425-789E5A647C1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383C-0D0A-48EF-8E0B-72C40D2E985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048B-4FE2-4E3D-B777-F6FE2A3B127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7043-5DCE-49E7-B8AD-BB469A006FC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A6B0-9378-4C42-BC30-E1442A35D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7377-8D68-40F9-8012-61CB50EF9D5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9C9B-C9E1-4A4F-B9FA-EDC5F5211A5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A5C8-6480-4BDF-B5E9-0133EBA9654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D05F-A798-4427-99EC-AA445D7A6CE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A6D3-647D-46A0-940C-0D616C8FA1E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4F46-D1B2-4C03-9D34-B03ABDCACF2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3C72-D5B5-4134-AA99-663B0FE8B11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C8BD-88B4-4011-8D8C-F3C6F816BE1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13 - Ορθογώνιο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0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1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14 - Ορθογώνιο"/>
          <p:cNvSpPr/>
          <p:nvPr/>
        </p:nvSpPr>
        <p:spPr>
          <a:xfrm>
            <a:off x="1332000" y="4437000"/>
            <a:ext cx="6875280" cy="13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15 - Ορθογώνιο"/>
          <p:cNvSpPr/>
          <p:nvPr/>
        </p:nvSpPr>
        <p:spPr>
          <a:xfrm>
            <a:off x="826920" y="580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9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1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5" name="12 - Εικόνα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3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24000" y="1392120"/>
            <a:ext cx="86407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ια ακόμη ενδιαφέρουσα, λειτουργία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τισμένου χώρου είναι πως ανάλογα με τα χαρακτηριστικά του, δηλαδή το μέγεθος και το σχήμ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ευκολύνουν  ή όχ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 διαμόρφωση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σωτερικού χώρου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ην οργάνωση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ων διαφόρων περιοχών της τάξης(γωνιές μάθησης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2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2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50560" y="1197000"/>
            <a:ext cx="8569080" cy="45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ημαντικό στοιχείο είναι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χώρος που αναλογεί στον κάθε μαθητή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ύγχρονες προδιαγραφές απαιτού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πιφάνεια αίθουσας τουλάχιστον 1,50 τ.μ/ανά μαθητή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Πηγή: Ο.Σ.Κ. Α.Ε.)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3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3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50560" y="1197000"/>
            <a:ext cx="8569080" cy="45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Αυτό είναι σημαντικό, καθώς ο συνωστισμός μαθητών σε μια αίθουσα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φαίνεται να έχει αρνητικές επιδράσεις στη συμπεριφορά των ατόμων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διαμφισβήτητο επίσης  είναι ότι οι ευρύχωρες αίθουσε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δίνουν τη δυνατότητα στον εκπαιδευτικό να χρησιμοποιεί εναλλακτ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ορφές διάταξης των θρανίω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π.χ. ομαδοσυνεργατική διδασκαλία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άλλη διάταξη κλπ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3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4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50560" y="1392120"/>
            <a:ext cx="856908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 διαμορφωμένος χώρ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κάθε σχολική αίθουσα έχει μια συγκεκριμένη διαρρύθμιση.  Τ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σωτερικό της μπορεί να χωρίζεται σε περιοχές με διαφορετική λειτουργία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εμία από αυτές τις περιοχ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το σχήμα και το μέγεθός τ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ξυπηρετεί συγκεκριμένες πτυχές του διδακτικο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ργου ( γωνιές μάθησης, ανάπτυξη ορισμένων δραστηριοτήτων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4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4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0560" y="1392120"/>
            <a:ext cx="856908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έπιπλα (θρανία, καρέκλες, βιβλιοθήκες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ίνακες, εποπτικό υλικό ,κλπ)και ο εξοπλισμός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ποθετούνται στο χώρο ανάλογα με τη λειτουργία του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5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5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διαμορφωμένος χώρος έχει μεγάλη σημασία καθώς η βασική λειτουργία τ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γκειται ότι προσφέρει τις άμεσες συνθήκες του χώρου για το εκπαιδευτικό έργο.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υτό  επιτυγχάνεται με τη διαρρύθμιση και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ισθητική του, οι οποίες δημιουργούν τις υλικές προϋποθέσεις για την οργάνωση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ς σε τέσσερα επίπεδ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6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6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. στη διαμόρφωσή της σε επιμέρους περιοχές λειτουργίας (για ομαδική/ ατομική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ασία, μελέτη, συζήτηση),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. στην αντιληπτική και αισθητική οργάνωση του εσωτερικού χώρου, οι οποί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νισχύουν σημαντικά τον προσανατολισμό της λειτουργίας της υλικής δομής,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75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76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3. στην ανάπτυξη συγκεκριμένων μορφών εκπαιδευτικής επικοινωνία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ασίας στο εσωτερικό της, που σχετίζονται με τις πρακτικές χώρου, τι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έσεις και τις στάσεις του σώματος του παιδιού στην τάξη,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8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8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Rectangle 1"/>
          <p:cNvSpPr/>
          <p:nvPr/>
        </p:nvSpPr>
        <p:spPr>
          <a:xfrm>
            <a:off x="971640" y="220500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. στη δημιουργία συνθηκών μικροπεριβάλλοντος (με τοπικές ρυθμίσεις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ωτισμού, και του χρωματικού ερεθίσματος) που ευνοούν την εκπαιδευτικ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ία μιας περιοχή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9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9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353440" cy="47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ι τεχνικοί περιβαλλοντικοί παράγοντες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τα αισθητικά και τα τεχνικά δεδομένα της σχολικής τάξης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ε αυτ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αταλέγοντα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χρώματα, ο φωτισμός, η θερμοκρασί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ώς καθορίζου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ι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εχνικές συνθήκες περιβάλλοντος στην αίθουσα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0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0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ργάνωση υποδομών και διαμόρφωση περιβάλλοντος εκπαίδευσης και μάθησ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 δομή της σχολικής τάξης</a:t>
            </a: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br>
              <a:rPr sz="2000"/>
            </a:br>
            <a:br>
              <a:rPr sz="32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4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Rectangle 1"/>
          <p:cNvSpPr/>
          <p:nvPr/>
        </p:nvSpPr>
        <p:spPr>
          <a:xfrm>
            <a:off x="10429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353440" cy="47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ίγουρα, μπορούν 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ροποποιηθούν ευκολότερα σε αντίθεση με τα στοιχεία του κτισμένου χώρου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μφίβολα, συμβάλλουν στη δημιουργία των κατάλληλων προϋποθέσεων για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ή διαδικασί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1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1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ια φωτεινή, ζεστή με χαρούμε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χρώματα αίθουσα προδιαθέτει τους μαθητές και τους διδάσκοντες διαφορετικά από  μια μουντή και ψυχρή αίθουσα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2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2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Rectangle 1"/>
          <p:cNvSpPr/>
          <p:nvPr/>
        </p:nvSpPr>
        <p:spPr>
          <a:xfrm>
            <a:off x="1042920" y="191628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θερμοκρασία, η θέρμανση , ο αερισμός είνα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πιο σημαντικο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εριβαλλοντικοί παράγοντες που επηρεάζουν την επίδοση των μαθητών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2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3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αυξημένος θόρυβος προκαλεί δυσλειτουργίες στην απόδοση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τόμου ενώ ευθύνεται για την επιθετική συμπεριφορά και τη νευρικότητα 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θόρυβοι,, η  έλλειψη μόνωσης είναι στοιχεία που δεν επιδρούν θετικά στη διαδικασί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, από πλευράς εκπαιδευτικών αλλά και μάθησης από πλευράς μαθητώ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3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3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φωτισμός των αιθουσών είναι ένας σημαντικό ζήτημα 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Δεν είναι ασύνηθες το γεγονός μαθητές διαμαρτύροντ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ως δεν μπορούν να παρακολουθήσουν το μάθημα λόγω ανεπαρ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ύς ή υπερβολικού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ωτισμού ιδίως στα ελληνικά δεδομένα, που παράθυρα και κουρτίνες δεν είναι στ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λύτερη δυνατή κατάστασ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4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4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23640" y="1392120"/>
            <a:ext cx="813564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ημαντική είναι η επιλογή των χρωμάτων της αίθουσας καθώς επηρεάζ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ν ψυχική διάθεση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δανικός θεωρείται ο συνδυασμός των φωτεινών, ψυχρών και θερμών χρωμάτων,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κολουθεί τις αρχές της δυναμικής των χρωμάτων (Συγκολλίτου, 1997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5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5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6800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Η επίπλωση και ο εξοπλισμό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όκειται για αντικείμενα με συγκεκριμένη χρήση που υποστηρίζουν τον τρόπο της εκπαιδευτικής λειτουργίας της τάξης, όπως τα θρανία, η έδρα, ο πίνακας, 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ίσματα, οι κουρτίνες, η βιβλιοθήκη και άλλα 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65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66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6800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θρανία και το κάθισμα του μαθητή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έπει να είναι εργονομικά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να συμβάλλουν στη δημιουργία ενός φιλικού παιδαγωγικού  περιβάλλοντος για τις σχολικές δραστηριότητε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7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7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 τα έπιπλα και ο εξοπλισμός παρουσιάζου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ονομικές ατέλειες έχουν αντίκτυπο στο αποτέλεσμα της εργασίας του μαθητή, ενώ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πορούν να προκαλέσουν επιθετική συμπεριφορά ακόμα  και προβλήματα υγείας (π.χ. σκολίωση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8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8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0920" y="1392120"/>
            <a:ext cx="82087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Το εκπαιδευτικό υλικ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δώ συγκαταλέγεται το υλικό που χρησιμοποιείται κατά τη διάρκεια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και μάθησης το οποίο είτε ανήκει στο σχολείο (βιβλία, εποπτικό υλικό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ξοπλιστικός μηχανισμός) είτε στους μαθητές (υλικό γραφής και ανάγνωσης)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9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9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διδακτηριακές εγκαταστάσεις του σχολείου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τον εξοπλισμό τους(πίνακες ,θρανία, καρέκλες, βιβλιοθήκες, εποπτικό υλικό, κλπ)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ν φωτισμό, τ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ρμοκρασία, τον αερισμό ,το θόρυβο και το είδος της οργάνωσης όλων αυτών των στοιχεί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σφέρουν ποικιλία φυσικών και συναισθηματικών ερεθισμάτων στα παιδιά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λλαπλά οφέλη στη διαδικασία της μάθηση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5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0920" y="1392120"/>
            <a:ext cx="86421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 εκπαιδευτικό υλικό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πηγή ερεθισμάτων μάθησ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ώς παρουσιάζει στον μαθητή πληροφορί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τικά με το περιεχόμενο των μαθημάτων 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80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80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50920" y="1392120"/>
            <a:ext cx="86421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ποιότητα της δραστηριότητας εξαρτάται από το εκπαιδευτικό υλικό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Όταν το υλικό είναι πλούσιο σε χρώματα , γραφικές παραστάσεις, κλπ  και ανανεώνεται τότε η  δραστηριότητα εμπλουτίζεται και πετυχαίνει το στόχο τη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τίθετα όταν το εκπαιδευτικό υλικό βρίσκεται είναι ελλιπές, φτωχό σε ερεθίσματα και σε κακή κατάσταση , η δραστηριότητα υποβαθμίζεται ή στην χειρότερη περίπτωση δεν προκαλεί και δενενδιαφέρει τους μαθητές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81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81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υλική (υπο)δομή της σχολικής τάξης</a:t>
            </a: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81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82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14 - Ορθογώνιο"/>
          <p:cNvSpPr/>
          <p:nvPr/>
        </p:nvSpPr>
        <p:spPr>
          <a:xfrm>
            <a:off x="395280" y="3573360"/>
            <a:ext cx="813744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7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0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829" name="12 - Εικόνα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830" name="5 - Ορθογώνιο"/>
          <p:cNvSpPr/>
          <p:nvPr/>
        </p:nvSpPr>
        <p:spPr>
          <a:xfrm>
            <a:off x="611280" y="59500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6 - Ορθογώνιο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94920" y="1392120"/>
            <a:ext cx="8064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εκριμένα  για τη σχολική τάξη ερευνητές 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Γερμανός (2006)) διακρίνει πέντε κατηγορίες παραγόντων της υλικής δομής τη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ικής αίθουσας: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. τον κτισμένο χώρο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. τον διαμορφωμένο χώρο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3. τους τεχνητούς περιβαλλοντικούς παράγοντες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. την επίπλωση και τον εξοπλισμό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5. το εκπαιδευτικό υλικ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6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6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50920" y="139212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διάφορες κατηγορίες της υλικής δομής επιτελούν ξεχωριστές λειτουργίες 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οίες βρίσκονται σε διαδικασία συνεχής αλληλεξάρτησης και αλληλοσυμπλήρωσης.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κοινός παρανομαστής όλων αυτών , είναι πως επιδρούν στη συμπεριφορά τ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ποκειμένων και στη λειτουργία της τάξης. Συνδέουν, δηλαδή, το χώρο με του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γοντες της κοινωνικής δομής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7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7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991280" cy="494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 κτισμένος χώρ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κτισμένος χώρος της τάξης περιγράφεται από τα στοιχεία της κατασκευή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τοίχοι, παράθυρα, πόρτα σχήμα, μέγεθος, κλπ) και ιδίως από την κάτοψ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ις όψεις της αίθουσας διδασκαλίας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ην πράξη τα δεδομένα αυτά είναι δύσκολ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να υποστούν οποιαδήποτε τροποποίηση ή μπορεί και να μην επιδέχονται καμί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τατροπή ανάλογα με τους κανονισμούς του  οργανισμού κατασκευής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ικού κτιρίου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Ομάδα 1"/>
          <p:cNvGrpSpPr/>
          <p:nvPr/>
        </p:nvGrpSpPr>
        <p:grpSpPr>
          <a:xfrm>
            <a:off x="0" y="0"/>
            <a:ext cx="9144000" cy="6551640"/>
            <a:chOff x="0" y="0"/>
            <a:chExt cx="9144000" cy="6551640"/>
          </a:xfrm>
        </p:grpSpPr>
        <p:grpSp>
          <p:nvGrpSpPr>
            <p:cNvPr id="585" name="Ομάδα 1"/>
            <p:cNvGrpSpPr/>
            <p:nvPr/>
          </p:nvGrpSpPr>
          <p:grpSpPr>
            <a:xfrm>
              <a:off x="0" y="0"/>
              <a:ext cx="9144000" cy="6551640"/>
              <a:chOff x="0" y="0"/>
              <a:chExt cx="9144000" cy="6551640"/>
            </a:xfrm>
          </p:grpSpPr>
          <p:sp>
            <p:nvSpPr>
              <p:cNvPr id="586" name="Line 4"/>
              <p:cNvSpPr/>
              <p:nvPr/>
            </p:nvSpPr>
            <p:spPr>
              <a:xfrm>
                <a:off x="179280" y="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5"/>
              <p:cNvSpPr/>
              <p:nvPr/>
            </p:nvSpPr>
            <p:spPr>
              <a:xfrm>
                <a:off x="1692000" y="7128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3"/>
              <p:cNvSpPr/>
              <p:nvPr/>
            </p:nvSpPr>
            <p:spPr>
              <a:xfrm>
                <a:off x="0" y="583272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Line 3"/>
            <p:cNvSpPr/>
            <p:nvPr/>
          </p:nvSpPr>
          <p:spPr>
            <a:xfrm>
              <a:off x="179280" y="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ο σύνολό τους αυτά τα στοιχεί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ορίζουν τις γενικές αρχές οργάνωσ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ς σχολικής ζωή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συνεπώς τα βασικά κριτήρι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ργάνωσης τ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αθησιακού περιβάλλοντο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9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9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ύμφωνα με ερευνητές(  Γερμανός (2006), ο κτισμένος χώρος οργανώνει τη σύνδεση τη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ς με τους υπόλοιπους χώρους του σχολείου διασυνδέοντας ή όχ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ική και οπτική επικοινωνία με αυτούς τους χώρ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Ως παράδειγμα ορίζεται η ύπαρξη τ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αθύρων στην σχολική αίθουσ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0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0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79280" y="1392120"/>
            <a:ext cx="86407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λυτικότερα, μεγάλα και φαρδιά παράθυρα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τική προς τον εξωτερικό υπαίθριο χώρο μπορούν να διευκολύνουν την οπτική κα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ική επικοινωνία της αίθουσας με τον αύλειο χώρο δίνοντας στο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ό και στους μαθητές τη δυνατότητα αξιοποίησης των εξωτερικώ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εθισμάτων που θεωρούνται σημαντικό παιδαγωγικό εργαλείο στη διδακτική πράξη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 χωρίς ή με λίγα και μικρά παράθυρα προσδίδουν στην τάξη έναν εσωστρεφή χαρακτήρ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1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1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>user</cp:lastModifiedBy>
  <dcterms:modified xsi:type="dcterms:W3CDTF">2020-09-27T08:16:04Z</dcterms:modified>
  <cp:revision>156</cp:revision>
  <dc:subject/>
  <dc:title>Παρουσίαση του PowerPoint</dc:title>
</cp:coreProperties>
</file>